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17C20-5FDA-4DD3-BC89-10333BCD1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82782-3F7B-4079-98C3-8B8C679E5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48043-8190-4B6E-AD32-5CD57D29B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86D84-2791-4BE3-89C0-888B01A13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80EA2-066B-45D2-B032-9AC215968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05B24-D342-48B4-9115-A1A800553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3410F-E227-459F-A982-547014ED9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0AFDD-EB96-4FBC-B6FD-275A86D93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062FA-0F2A-4A11-9A58-38D6470EB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2E0B9-221E-4CCF-8946-BC98CF4A7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DBE6E-760F-42E5-A000-C01E4BF18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C33F3-911A-4AD4-936E-878266B9C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62335-275D-4C9C-8278-1B3FD9558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4BDCF-4599-45EA-A4DB-D9B6A3AE3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B4CA0-9BB4-4EED-8A25-362B3B7FA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0CD9D-46E2-439E-AE5D-3F9A38F16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CE9AD-13E8-4ACE-B0E9-7699A4364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CA227-5866-4A06-85AF-0F71508D3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8F409-98C0-458D-BE35-AA574F3FF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B76D5-AC5E-45DD-87D6-EF2751047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E11FD-AC94-470E-B86C-CEB1BCA80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38550-53A8-4503-9B13-F0EDB9B97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7057A-EE86-43B0-A997-3989D4A7B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BE4EE-6C2B-48D3-8940-D96F12CC3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1EEB4-C8D1-498D-86EB-3182910DBE9F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63D74-7A03-4CFB-901D-1822439D88EF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mailto:ldiserio@fgvsp.br" TargetMode="External"/><Relationship Id="rId3" Type="http://schemas.openxmlformats.org/officeDocument/2006/relationships/hyperlink" Target="mailto:wdamiani@fgvsp.br" TargetMode="External"/><Relationship Id="rId4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BUSINESS PLA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403280" y="3443040"/>
            <a:ext cx="747864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mo montar um Business Pla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6372360" y="404640"/>
            <a:ext cx="2392200" cy="10368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5724360" y="5064840"/>
            <a:ext cx="3419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33cc"/>
                </a:solidFill>
                <a:latin typeface="Arial Narrow"/>
              </a:rPr>
              <a:t>Profs. Luiz C. Di Serio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 u="sng">
                <a:solidFill>
                  <a:srgbClr val="003366"/>
                </a:solidFill>
                <a:uFillTx/>
                <a:latin typeface="Arial Narrow"/>
                <a:hlinkClick r:id="rId2"/>
              </a:rPr>
              <a:t>ldiserio@fgvsp.br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33cc"/>
                </a:solidFill>
                <a:latin typeface="Arial Narrow"/>
              </a:rPr>
              <a:t>Wagner B. Damiani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 u="sng">
                <a:solidFill>
                  <a:srgbClr val="003366"/>
                </a:solidFill>
                <a:uFillTx/>
                <a:latin typeface="Arial Narrow"/>
                <a:hlinkClick r:id="rId3"/>
              </a:rPr>
              <a:t>wdamiani@fgvsp.br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33cc"/>
                </a:solidFill>
                <a:latin typeface="Arial Narrow"/>
              </a:rPr>
              <a:t>PC-8067-RR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UMÁRIO EXECUTIV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8126640" cy="41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Propósito do Plan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Produtos e Serviços Ofertados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Análise de Marketing – Características e Escop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Estratégia de Mercado e de Venda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Pessoa-Chav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Dados Financeiro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Retorno do Investiment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7524720" y="260280"/>
          <a:ext cx="1397160" cy="811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24720" y="260280"/>
                    <a:ext cx="1397160" cy="81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BACKGROUN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91064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Descrição da Empresa – Passado e Presente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Habilidades distintas, Singularidade e Proteção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7496280" y="260280"/>
          <a:ext cx="1396800" cy="811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96280" y="260280"/>
                    <a:ext cx="1396800" cy="81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NÁLISE DE MERCAD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91064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Descrição da Indústria, escopo e tendências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Perfil do Principal Client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Mercado-alvo – Penetração de Mercado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Técnicas predominantes de Vendas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Problemas, obstáculos e Oportunidades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Pesquisa de Mercado – Específica e Gera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Competição – Forças e Franqueza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7496280" y="260280"/>
          <a:ext cx="1396800" cy="811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96280" y="260280"/>
                    <a:ext cx="1396800" cy="81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RODUTO E/OU SERVIÇ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91064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Benefícios – Satisfação das Necessidades do Cliente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Estágio Atual – Idéia, Protótipo, Pequenas Vendas, Etc.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Ciclo de Vid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Propriedade Intelectual – Patentes, Comércio Secreto, Etc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7524720" y="260280"/>
          <a:ext cx="1397160" cy="811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24720" y="260280"/>
                    <a:ext cx="1397160" cy="81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STRATÉGIA DE MERCAD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2361960"/>
            <a:ext cx="7766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Estratégia Específica para o Cresciment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Distribuição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Propaganda – Institucional e de Produto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Estratégia Específica de Venda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7451640" y="189000"/>
          <a:ext cx="1397160" cy="811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51640" y="189000"/>
                    <a:ext cx="1397160" cy="81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OPERAÇÕ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981920" cy="43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Pessoa-Chave – Alocação de Recursos, Principais Força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Produção e/ou Entrega de Serviço – Capacidade Técnica, Custos, Logística, Controle de Qualidade, Economias de Escala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Necessidade de Fornecedores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Estrutura Lega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Stakeholders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Mapa Organizacional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Recursos Humanos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451640" y="260280"/>
          <a:ext cx="1397160" cy="811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51640" y="260280"/>
                    <a:ext cx="1397160" cy="81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FINANCEIR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2361960"/>
            <a:ext cx="80550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Capital Necessário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Uso do Capital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Retorno dos Investidor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Passado e Presente Financeiro – Fluxo de Caixa, Lucro, Prejuízo, Balanço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Projeções Futuras – Fluxo de Caixa, Balanço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Explicação das Projeções Futuras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7380360" y="260280"/>
          <a:ext cx="1396800" cy="811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80360" y="260280"/>
                    <a:ext cx="1396800" cy="81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PÊNDIC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2361960"/>
            <a:ext cx="783756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Resumo dos Gestores-Chave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7451640" y="333360"/>
          <a:ext cx="1397160" cy="811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51640" y="333360"/>
                    <a:ext cx="1397160" cy="81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7T18:32:30Z</dcterms:created>
  <dc:creator>Re</dc:creator>
  <dc:description/>
  <dc:language>en-US</dc:language>
  <cp:lastModifiedBy>ldiserio</cp:lastModifiedBy>
  <dcterms:modified xsi:type="dcterms:W3CDTF">2007-03-06T21:02:33Z</dcterms:modified>
  <cp:revision>14</cp:revision>
  <dc:subject/>
  <dc:title>BUSINESS PLAN</dc:title>
</cp:coreProperties>
</file>